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33408C7-4577-4AC4-911C-9021C5D485F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27C517C7-B5BD-4D12-96AA-92353CC59E6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31EECDBD-899E-4FBF-A1D0-1CAE25A1341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4D99115-DB23-4B48-A6EF-E94481B42A5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C267B7E-DCD2-462B-8D75-55D3116EEB1B}"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DE138370-CC38-4395-B512-4A21520C718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69B2551-418F-46AF-9DD6-C68EE948179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206FE8D-7A09-4827-A27C-543A6127E2E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F452E4FC-3CF3-48A4-A926-CBE88E9D94E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7B33AA-ABDC-4810-9F38-80F9A0387024}"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6802428-ABA9-494C-AE9D-E7CD3A7A3B52}"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4FF43E5-CB45-44DF-8325-0B296AAFF81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FF42BF7-2276-46B2-A489-8E72B024056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F74A0DA-FF05-40C6-98BE-4B1E0ED997E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DAB8A7C-707C-44D1-A31F-F777E1E9919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B742517-C254-4AB5-98F5-026F89AE56C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BF0AFB2E-46B5-4A49-9B38-C59C4247670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E5DB989-EFEB-4FDA-A959-51DC4D5542F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A38996-0A9F-4CCF-916F-0A230D08F94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0C7BC2-30C7-4E45-8A20-A037F1F2266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7BBD82D-199A-4BDE-AC73-3AED127CA11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42BAFB5-F280-4C7F-834F-EED6A8F38F5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C362CF-7872-48C4-BBAB-3DE037B7531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1226F4-835F-492D-A3EB-405EC120531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19DB615-1DF2-4068-BDED-3AB09DCE5A5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191FC94-5D3B-4E21-8646-5A4F8C9C563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703C1A-50BF-4473-B482-6430AB4F7A5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29AF248-5761-4F9F-9817-4D5EC4755B0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CCB6FB4-09AF-45FD-A65C-33D9CAFD6140}"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1918C87-BC1E-46DE-ACD0-3DAEA98FCC4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9B97EFB6-0DB1-42C1-A933-DC7E4119B35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01958-F596-4806-9313-4E77428BD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4FA3E-3133-4DEC-B31D-B8976870A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C41FC-2182-4E2F-AA7F-4F49B1A80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130BA-53EE-4018-84B9-F49887DBE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A18A8-22D8-43DB-99AB-0CD2CCCD1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8EB34-9006-41A1-9B89-AAAFDFB0A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FA243-0E0D-46A4-ABD1-F767267E8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3A1E3-AD98-457D-B850-7455197BC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C4206-B46B-4802-82E6-374E25911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7268A-6D36-4144-A65D-C32CB6DAE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483C1-FB18-4656-8C08-7B7432988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5FA95-E533-4973-AFE6-EDBE8EFEC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D886B-D351-4AFF-8B2F-BA87B2CDB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77E7F-B295-44AD-9BC9-8CAA36C0A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1196E-23D3-419E-8D79-10D697C27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4A1F9-A58E-465F-A03F-D0991F896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2C473-82B3-42E2-AD99-5C6053C7A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033ED-6703-4CCE-A633-0FC85F6E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934C9-E76C-4C74-8C13-2E6B377E4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32751-64CF-4450-9EE4-D7FB12CBF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3B64B-A533-4A10-9243-1829A1825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81881-3744-46CA-A1A9-BD07F973B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59FA3-7D06-470D-A9F0-416B274B6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CDBD-AA40-4B14-8A6B-02AFDF34E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32B3021-DB9D-42D2-825C-87637EC385CD}" type="datetime">
              <a:rPr b="0" lang="zh-TW" sz="1400" spc="-1" strike="noStrike">
                <a:solidFill>
                  <a:srgbClr val="000000"/>
                </a:solidFill>
                <a:latin typeface="Arial"/>
              </a:rPr>
              <a:t>115/07/29</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266F3E8-C3C6-4522-899E-8B022C217FE6}"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549A835-B8CD-49C2-B568-4F7879D25482}" type="datetime">
              <a:rPr b="0" lang="zh-TW" sz="1400" spc="-1" strike="noStrike">
                <a:solidFill>
                  <a:srgbClr val="000000"/>
                </a:solidFill>
                <a:latin typeface="Arial"/>
              </a:rPr>
              <a:t>115/0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36DB86E-A799-4830-8292-AC409A2EE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2056463-30CA-46B8-AF99-4A4E0E1FFA9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28F2E90-8408-4D01-933E-E22DD6CCF32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CB11A-C877-4908-944C-27742B11683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DF90757-435C-4810-9313-83B4C51B7B4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2EA570F-0669-4E9D-B741-F83967C01B2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D91AAC-CB9E-45BE-8593-9074632F0D2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839A38E-4F32-4D71-B9C0-8743F568DFD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746A229-0567-4CC2-9635-20363E167E2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8BD536E-8E04-4E78-8DCD-980F2004770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87E73B5-A995-48F3-90DE-33FD05F1FB9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6454C38-FB65-4241-A492-6024D69FBBB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9A48412-57F7-4D44-882C-24694B0C86A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C27AAD1-F4B1-4B15-9161-E73C17555B7C}" type="datetime">
              <a:rPr b="0" lang="zh-TW" sz="1400" spc="-1" strike="noStrike">
                <a:solidFill>
                  <a:srgbClr val="000000"/>
                </a:solidFill>
                <a:latin typeface="Arial"/>
                <a:ea typeface="新細明體"/>
              </a:rPr>
              <a:t>115/07/29</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1DB67B4-3F67-4BE2-B7C4-F71FB68A42B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A458901-6FF8-40DC-BAD9-B2E1D823270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074AC7C-7264-48D9-B602-8D0B85D64F4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388C2ED-2994-4C7B-8CDE-80E45F6445E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2E6906F-887F-4C60-8B0E-F19840619BF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05D4718-DF7C-4074-A58B-E163F794A67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0EFCC25-3634-41AB-B9BB-D2E7DAE435C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C7368EA-0576-479B-B543-87970597C60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07BCB31-02A5-4B0D-8116-8CC4913CD98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C5A68C3-4F2D-4157-80D8-481042C6AF7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03B810B-23D4-4E01-A27A-0A829D5BB18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3EE8C8-6732-4258-B941-1A1AB70AF7A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8B15475-C366-497D-A62B-3F582CF2924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2DEC8B3-95E4-4675-BA76-BFA3BD88A9A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994FAC1-D392-4BD3-8B51-E987F990AB0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296CCA7-A225-4673-9440-DC94AD3EB0C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BEC3636-6381-4EF6-AE41-E861F6AD9C2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0A0BA96-7D1C-431C-A4D9-5FC583EBEC7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B6163-A1C5-4253-AF93-2DA0F28EC90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7696161-B74B-4390-ABD9-25840F6652E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E029B-8A57-4B96-8B44-14B836D77CE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D7F97B0-22A5-42B0-9C3B-2F4EA3919CC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652725-A04B-4851-985B-B9B51E29B1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55E0F98-B1D0-4DB8-A1D6-DA7D7B4D500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40060-4D63-4B3E-B27E-565ACDB577D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444B0C-5ADE-44DB-852D-B15C18F516E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564CE11-6EF9-4E23-A809-493A24B3854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D003D-830F-4BFD-AFC1-5957C2A7EBA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2ACADEC-14AE-474F-90D2-18D7B06162F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FDF970B-72C9-4D4E-B586-A87CD444594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8E0C9-0846-4CC5-B9D5-45F7A04CC16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937FF0-0A2D-4FB0-8A48-6EB440D928E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AB0542A-4046-4A7B-BE9F-FF79F83A6E4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5E5EE42-2AA9-4602-B1CD-DB47F867515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F38D0-4F50-418B-8114-42EA8F351F6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12FCC3-78C3-4C80-85FC-AF9169B671D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DC50DB5-C5E7-4716-92C1-F81F7085731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0C8E5-8A6A-4FE3-96C4-8AEEC95E41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1B4CC7-08F0-4541-95E0-E47E564D737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513A51-1523-4CC0-96A0-823D0886DD7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30FB4CB-DDAC-4351-ACD1-336B2A795B0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7FC619B-56CE-4D02-BACF-2804DE1F2FA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1AC98DF-92E9-4D53-BEB9-1BC0AB4103A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97A231B-68DA-4C87-A5F7-7AF511F866F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EF583DF-44A1-4CED-B43B-8B3F360644A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7D0CE97-49F3-4FD7-A341-1464EFCF953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060B155-5358-4B7E-A1CC-C031D95E73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84EAFFA-92F8-4148-A279-3CB3C485041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C1F7A6-31CE-421C-B86B-97DEAC9B58B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1BF6C3D-C1EA-48E4-8957-E20060BB5A4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4D9839E-494D-419A-85DA-77854323BC8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CF64927-9D1A-4E23-BB0A-42E8AC2CF9E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DEA1C36-8DBD-4EFF-93C6-D204B69807E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D5AD091-BE35-44A8-A8ED-BF1F9712D8C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C2C6672-DC30-4301-870D-4A688542A8D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F74376-DB26-44FD-A65B-30DE4DC1299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64A801B-F050-40E4-BF16-CD17B34B380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6F118A-EA24-447A-8C13-8CB9D70E33D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B5697CC-FF06-4790-9BA8-88B571B8F91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CAD02-5BBA-495D-9410-F2CB2D5FAE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832C2A1-54B0-4D62-BA73-7EC949F3D3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285D12C-70E9-48B8-8EE3-963B5B1EAAC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AED5B63-A438-479D-90C6-0834AF640D3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DAA645-2797-4E0B-8EEB-C05EC214DDF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C79FF8F-84C6-4B9F-BD6A-52B6A4590AE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E445140-A7A6-4984-A571-BA37651A778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753460-5D36-4B8A-AE34-3FAD5D29408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CFD6FC9-A288-4858-BFE0-BF38A75CFFE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80382A-9DC6-4AE2-B038-BE4C8A55052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E58EBA2-3B7E-4074-A4E3-1A57C87DC61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F32D7E-FAD5-4670-B258-60D6A480B56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0F93759-79A7-4B19-A571-855A46D131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0F6EEAA-8B2E-4D96-B255-14E4A3D44C2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FA90080-5398-454B-ADF8-851025970AD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7AFF74B-4D99-46E2-8D41-90378A33240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86C9A73-361C-4F72-9816-F450B832681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E8D35AE-9382-43E3-8907-93CF0ACAE25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DF3CCF6-D197-41F2-A523-67043E39B40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B5C582-D677-419D-A743-DEE0974C101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1E6AE70-5999-4739-897B-F2C55F00B56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EEF76E-1AA5-427F-B0AD-5F9B0FBB86B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D1D0976-157A-460D-B2CE-20DC56A8C7E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427D596-76B5-4D99-ADDB-CA87CADCEEC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192AFC9-37E0-4702-9382-8A2E37E4E54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3DAFBE5-479B-4C0C-A88E-C500AFC7066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E6604A-BAE0-4540-8CB7-97B8CAFAAF2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953C2B-FCFF-4934-A028-738781D38A5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24A9CC9-44F6-4254-9CEA-821452E8CCF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4A31DF1-102E-4CFD-88CD-48D9B8ECA13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6370C0A-C0A7-445D-8B23-A3F8B419007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8A7FE50-A2CB-4CC5-BA9B-78C94A67129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CD0976-A1D2-439B-8536-33B120998D2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67A5F57-8C7F-494A-8D47-112B1812E89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DAA4A86-5EDD-4392-BFAC-6FDFE1AACDA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54D8A28-3A3D-4B1A-AD70-2C333345C1B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99725C6-8E4E-457E-BB85-8B0AF99F360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E6D15D2-ED40-4C34-93D6-23E15FCB400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46D1053-6118-4102-A481-214BF3972D3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27FBB12-0DFA-4CDD-B009-366D4CB09E9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E1A2A9D-023C-4352-A4E9-04DF5D58C71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D878206-6767-499C-8FF5-971741A0929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BBFD1C0-3E91-4C76-B3EC-E8D5F7996E6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90C02D-281C-416B-B3FF-8C5B7DC62A04}"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D62EA29-C91D-43D5-BD66-48EE09CFE2C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D5D7831-6A7B-4E28-97C7-5232AD89E3E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CB6ECAF-F43B-4976-BA6E-D10531F8ABB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226D59-13F0-4E9D-A121-29CD7AD60B3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3CDB0A9-70CC-47AB-85C5-8E002A90950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86C2912-79A4-4AAB-A55B-2011B36DBD5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7CAA4F-AE4D-4108-9A12-D76F3BE693B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59D34B1-9592-49D8-B48D-6252B52D457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38512B5-30D4-4979-B386-19794749C53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49153BE-724A-4354-9C75-9F75E7C50E4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A90ED73-185C-4600-8256-7219BD097E0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F4C80E-BD29-4B1F-B022-C9AD709B9E1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9F6AE8B-F44B-4A54-8456-39FAB9E03248}"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CC5F99A-9639-4556-BF55-814E5834784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B983828-6F0D-45A4-863A-9A670977187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C3174A7-1EDD-4D04-8CB3-E3B2ABB8C0C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1AA8CF7-CFBC-494A-8DA3-4A077AAD735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968511C-2ECB-4BFC-8F7F-C7A7895BBFD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9088EF8-09DB-4CB5-93D3-3D1C709238D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37004C3-ED6D-4A9C-A0A8-8E18B0D92B2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9CE4EA1-7F96-4589-A3DC-2C2EABC4047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F19ACA8-56E3-4622-A4C3-B5512B5D582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A788ABF-228D-44D0-B9C8-FDFD9133D7F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44099E3-17D7-4BAA-825B-1B13A4E244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956BF63-67AA-47D7-8F86-E9F64BC10E0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25834E9-B17F-498A-B0D7-42387AF610D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ED43E64-F2F4-469C-AA6E-764CFBFEDD36}"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47CBC75-7418-4888-9212-7948A1E8F29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B64E551-8D14-412D-8AED-89807AFBE7AF}"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3B8E818-B0FD-4792-86D3-4650574243C2}"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890FF07-4EA5-4A8A-8231-B7396C5C1FD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647FABD-16ED-4B0E-B6C7-6E68AF05B61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C7CC45B-0BF7-4BC1-B75F-1BD68AABA0A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31BDEB6-FB6D-4A51-A80D-BFECBD789683}"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2E085F2-F8DA-4DF2-8BED-AD0BC25774A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C08C287-018A-479B-9D03-ACC2261DDB5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7964F1-6FBF-4C4C-93DB-8B5C59D2179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0A1D11C-3D79-423D-901B-DBA9234F88B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DC5FEF4-79B6-4D14-8B13-6EF992AEF24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95DF70-1B05-4AD4-AF7E-C5B7E0B1C30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